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22C-5081-4734-BA35-4E3A05E8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695-47F8-4AB9-B3F8-4D2AA02E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C4A-DE38-4F34-AE85-354842A8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4D0-9AF1-4D7C-9554-CEE2EE79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A96-17AD-4850-AEFD-D3723714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939-9AE8-451E-B85E-0A23753B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2AE-EF80-49B9-8C1A-96578B45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739-E8CA-4572-9560-9F1CF798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AEB-0F60-48A1-995E-7E585C0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4BB-5D7F-4091-9611-ABB261F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00F-31A1-43C1-875F-FA294EE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CAD-E85D-49F8-AC3B-33A206F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61EC-F78F-4077-B00C-143E609F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32Z</dcterms:modified>
  <cp:revision>5</cp:revision>
  <dc:subject/>
  <dc:title>Words in a “Snap”</dc:title>
</cp:coreProperties>
</file>